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9950-52A7-460B-9E4A-35F276C65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EA01-9677-4B56-B55F-E7283121D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4458-03B0-4BB9-9360-2CF6A3C5D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5655-B223-4470-95AE-AB26CFFF6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E3BD-7131-423E-BFEB-FAB95B0E7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5AD5-D0BE-4ED5-9EC8-D35973E77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 6 – Fail Safe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839B-A406-49B4-89B5-B389A1D36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4A6F-D84B-4097-AECB-E56A27A8A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44F7-048B-48ED-81F5-0EC5CAAB1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7707-AADA-43C6-85B6-9E5662DFC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F4AB-F715-4EF6-BAA3-A70D21F0D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EC4D-38DD-44A9-B731-851AF3FD6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CDA3-9862-4FC2-9BE5-19EE993A5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DA79-36FE-4DE1-9200-0439D4B8C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93A0-297F-4D6F-A5E3-6B3F993C7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BL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7628-B09F-4556-8B5F-B40FF265C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7FC4-2F76-476A-91D8-98E0A9C34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6457-58EF-499D-8188-B6F509CD5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1681-03F7-4A61-A4E8-81C745BAD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FA00-214B-4DA2-8D7F-88809245A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E800-9D78-41E8-8A8E-5C776B424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CFDD-FDDA-40CD-B970-D8BA88A70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75BC-5A0A-4374-9F6A-6EBAD1052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50BC-D72D-4AD8-A36D-D85B7EFC0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 1 – View and Discuss 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 1b – Four Corners signage (View and Discuss tit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5CA8-BCA7-4956-9A89-40F506B83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FA70-8E2E-4B93-9BDB-6B2EBCE9F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2DDA-6E3B-4455-92C4-8B9F20524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D911-9020-4889-A8CE-3029751B9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econd question is rarely asked, but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45A1-609E-4108-A004-AD79920D3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responses on chart paper, or create electronic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691F-A84E-421A-90E0-DC3E063E5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2 – Brandon and Alexis Money Problem (Possible difficulty and alternate probl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6EDC-F334-4D7B-B314-9138D0753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0C46-F1E0-46A6-8432-BFD33865E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9393-0AC0-4E71-8184-1D09CFBDF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we did that with the PPQ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AAED-801B-4794-A1F2-E7161B7B7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some examples here, e.g. diagnostic, task; anticipation guide;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odeled use of prior assessment using Day 1 exit card; your feedback and questions informed today’s presentation (emphasis, focu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only touch on this today but it is important when you’re back in your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AE53-1223-4BF5-A3B6-30AD39878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E2E4-0395-4478-A31D-9029CB333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some examples here, e.g. diagnostic, task; anticipation guide;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odeled use of prior assessment using Day 1 exit card; your feedback and questions informed today’s presentation (emphasis, focu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only touch on this today but it is important when you’re back in your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52D1-A7AF-4E00-9654-328DC3E0B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some examples here, e.g. diagnostic, task; anticipation guide;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odeled use of prior assessment using Day 1 exit card; your feedback and questions informed today’s presentation (emphasis, focu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only touch on this today but it is important when you’re back in your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A37A-AB82-4603-A972-1E6AA3BDF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EE0C-98CC-460C-A3A5-8B608857E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414C-32C3-41BA-AD33-CDBDCC54C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4A4B-C4B3-4D4B-8D52-0E12A35DE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9908-2989-4750-AFF6-C19122C10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8B10-AE11-4907-A698-1DF0DFF27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FC9C-6FDF-4CF1-8E41-E60FDF696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2A11-195F-4A0D-AA8D-C8A3B1F6C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4C60-9451-46C5-BF47-2B0B2A665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A86F-CADE-40E3-BAD9-36DEC931D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E393-56C5-440E-9AAB-D35105209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AC7F-8FE3-4445-BC63-8D8AE4F18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CAA7-11D9-4A07-8C48-E2D0E384D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FBFB-8F0D-4EA7-9045-B7B5CDBD9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C4C5-36C6-4B8E-908F-186D25FA0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613C-A788-4BD5-818E-042ECDFBB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should solve one of these before the common questions are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have used positive coordinates if I see this 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8CBC-6D29-4979-ACBF-F9560F49A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3C0A-356F-45EA-8F04-7867A9DAA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29B4-72CB-41FE-97FC-DA6C07794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190A-8B30-4579-A240-8B9F08DD6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copies nee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o groups – discuss at table; share out a couple of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95E4-953E-43DA-96DC-1A32530A1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091A-F395-4DF7-A742-FF06CA39E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DA6B-D072-458B-9F12-B81C634A4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4DF5-0110-4301-8463-FD2E3AD03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C415-C507-4182-A561-C462F0F4B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FFD3-B8E2-4770-AA5A-AC74C2292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745D-47EA-4904-A993-A9F53D712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F168-3E66-45A0-9D66-0ECB12EDD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FC04-2EDE-4CBC-894C-6CF3D932D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D415-091E-415C-9695-76B8FC6A7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(n +1) or 2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1) or 2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0-n)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 + 2 + 1  or 3 (n+1) 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2D73-ED67-4F92-9A50-AC07F6896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A920-C3E2-4B93-A2D9-92C04D9F3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9DB9-D1F2-411D-B962-AB1B6A5D4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0340-2D81-461B-9453-8F28CF837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6DF0-34E9-46B7-9916-9FF1AC9AA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F30C-E438-48E4-BA64-AAFF223C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056A-3B72-43EF-8F30-7D7E6016E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how different bu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E6A2-B013-43C8-885D-73921E28E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333F-AD83-42B3-8C7A-F819185F5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Virtual Tiles IWB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3D29-5821-462C-84BC-98F46AB1C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894D-EEE3-480E-B6D6-63908F0C0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3 (Parallel Task Samples You’ve Seen) and BLM 4 (Parallel Choices reformatted with common questions column blan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38CC-2842-44A3-B71A-0FEDA3C1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copies (from Day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; share out a couple of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1776-19E6-40B3-8112-989A97DA9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ge needed here – Each option name per cor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8CE8-6E96-4470-85EF-93D7F29AB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D98A-D1DE-482F-AC39-6F62F9C25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6129-C713-4B38-BC49-8AAEA9FCF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6461-679E-4E71-9586-D1D2727A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6B5F-5C17-454B-94B2-9B3E5E84D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y = 4x – 4 or y =  4(x-2)^2 + 4 or y = 2x^3 -8x^2 +6x +8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0AAD-E831-4A17-97A7-F33953E66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25A0-A6DB-4685-8FEA-FD6BA7333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F329-F36E-4C7C-A48C-BE37626ED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6FC6-3402-4493-8607-F1D23D302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00FE-EF10-45DC-94AF-4B9B90BBE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12F6-A9D1-4A15-8B57-45A39B8C6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53F7-BEAB-4E76-9546-F51E62CDD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9788-98BD-4A58-A01B-236103FBE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9FC6-95F5-47BA-B1DE-1B1F1CF8A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3869-6A1A-4B47-86E6-A216876C7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09DA-735E-48DF-BF4A-F7F3238F2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trying to see if students have met the goal; coherent whole (BI); meet the curriculum expectations; may be considered modification if considering parallel tasks in conso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3955-D643-412A-841D-A28C9B61D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I would be possible for examples; possible BI sugg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examples from Minds-On, Action! And Consolidate/Debrief (2 from each) will appear in PPT; BLM 5 will include the other exam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F833-B2C3-428D-8B2A-C73FC6BAB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n’t just ask the open question and walk away– you ask probing questions, just like we used common questions for parallel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6790-3977-4A39-93F0-E1FA1DB1E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m which big idea  (it’s BI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8F64-B22C-42AD-88A2-DDB6A0980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4C66-C9E3-4323-8689-E0F810EFD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they see that open activities benefit the weak and the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4BFA-B690-4E0A-9F37-5F7611FE5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952A-5B4D-4343-8057-6227F3267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5293-D4FD-429E-ACD6-097A9D301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E307-1CDD-4A13-825C-AAF13F865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4FE6-5950-43C9-8A4F-7CCC67718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hem to know the difference between equations with single solutions and “identiti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2EE4-A319-4161-9A8D-3B7D336F2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5AF6-834F-459C-9EAA-93814B8D2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 5 – Open Questions_Matching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7215-D777-476D-BBC3-9CEF62444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E16-7B3B-4C4E-BAE9-3A6A1B90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7F2-52D7-45BD-BA96-1093F475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E9B-BA6C-44F2-8C81-5980362C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77A-13FD-425B-8840-EA78B32F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291-0F34-4EA1-AB44-E901C1F8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369-2A45-4E38-97C4-044B1651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EF4-1BE0-4EEB-8068-BE49E205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23E0-E172-41F2-9C01-670AAEA6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D69-0C68-4F40-A6E7-AA154E52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E5D-3D74-48E8-9606-7D083D26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76C-7C6A-4EE1-A2B8-0A2E0005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E01-4123-4F9B-9559-3E655F87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A504-FAF2-4817-8CB7-166C98914FA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3049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Day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AINS_Globe_70smws"/>
          <p:cNvPicPr/>
          <p:nvPr/>
        </p:nvPicPr>
        <p:blipFill>
          <a:blip r:embed="rId1"/>
          <a:stretch/>
        </p:blipFill>
        <p:spPr>
          <a:xfrm>
            <a:off x="685800" y="838080"/>
            <a:ext cx="2637000" cy="4953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4572000" y="2897280"/>
            <a:ext cx="44449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Professional Learning for Mathematics Leaders and Coaches—</a:t>
            </a:r>
            <a:r>
              <a:rPr b="0" i="1" lang="en-US" sz="3600" spc="-1" strike="noStrike">
                <a:solidFill>
                  <a:srgbClr val="0d469b"/>
                </a:solidFill>
                <a:latin typeface="Comic Sans MS"/>
              </a:rPr>
              <a:t>Not just a 3-part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553A-93B0-4C70-9AAE-2EA87A185FF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8360" y="990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ding to Day 1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17CB-9D09-443F-9850-6660A50999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066680" y="236232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&lt;&lt;Each site should include appropriate responses from Exit card questions here&gt;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884160" y="1895400"/>
            <a:ext cx="78138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open questions did you find most difficult to place? 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similarities and/or differences did you observe between your choices and those of your colleag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atch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135D-38E2-4B82-B320-1148752FB5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ten you can start from an existing lesson and open parts of it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Starting from a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E5CC-58A4-4E9F-A6C5-244E97A725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strategy is to start with an answer and create a question. For example, a  growing pattern has 20 as the 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What could the pattern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011B-485A-40BA-B859-D4527C48A4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ask for similarities and differences. For example, how is factoring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5x+6 like and different from factoring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2x –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B88A-6A93-46D8-B5C6-C26E4D178FF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let the student choose values. For example, ask students to choose values for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grap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+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2E09-72CC-4476-9225-F0D19BF5186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the other examples we have seen, you can see that these are not the only three strategies but they are help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Oth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9C10-E097-4E41-98D4-BF793094BCA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3"/>
          <p:cNvSpPr/>
          <p:nvPr/>
        </p:nvSpPr>
        <p:spPr>
          <a:xfrm>
            <a:off x="1066680" y="2057400"/>
            <a:ext cx="7315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one of the following tasks. Make it more o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5671-21CA-43B0-9DBF-509A17FB993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have 14 $5-bills. How many toonies do you need to have $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mbination of $2 coins and $5 bills have a total value of $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A082-D4C4-45B4-9ED9-C36F22EE000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1143000" y="2438280"/>
            <a:ext cx="7315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nk about why you might use an open question in each part of the lesson. Would your reasons be the s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cuss this in your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825C-3C31-4615-8426-5676FF3D0FB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3"/>
          <p:cNvSpPr/>
          <p:nvPr/>
        </p:nvSpPr>
        <p:spPr>
          <a:xfrm>
            <a:off x="1143000" y="243828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3102-C770-4D46-B659-EBA221A57A9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685800" y="690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Co-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847800" y="1909800"/>
            <a:ext cx="76104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in board t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resource(s) that you brough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just one or more parts of a lesson by incorporating an open question and/or parallel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PPQT to record you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Questions from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6680" y="236232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have any other outstanding questions from Day 1, please post these on our parking l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F684-022E-496B-B433-963896C5988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3"/>
          <p:cNvSpPr/>
          <p:nvPr/>
        </p:nvSpPr>
        <p:spPr>
          <a:xfrm>
            <a:off x="1143000" y="243828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854C-186E-43FA-A00F-4B927301F4D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685800" y="690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Break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847800" y="1909800"/>
            <a:ext cx="7610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/B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o Do” Between Sess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203040" y="2187720"/>
            <a:ext cx="86774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vised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54D2-702D-40A5-B1F0-8B519AA67ED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884160" y="1749600"/>
            <a:ext cx="7156440" cy="488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47640" y="1905120"/>
            <a:ext cx="77598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looked at the ideas th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planning a lesson, you design backwards: focus in on a goal and plan your lesson around that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B3B5-DE25-40B7-ACDA-6430C97D7EF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990720" y="1905120"/>
            <a:ext cx="77943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goal for a lesson is created based on curriculum expectations, but filtered through the lens of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36B9-E36D-4E56-B7C5-69B25C9647D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576360" y="2057400"/>
            <a:ext cx="80992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(s) to consolidate the goal are essential and may inform other parts of th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FA7F-2794-4B07-B932-912BA7A4A3E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684360" y="2057400"/>
            <a:ext cx="77738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ponses to consolidating question(s) are useful assessment for learning inform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9389-6C49-4EAC-9268-4017B5A141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914400" y="210348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solidation question(s) need to reflect the goal, whether the lesson is a concept-building lesson or a practice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CB63-4DCA-48DD-BA86-32F42F5F70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684360" y="1905120"/>
            <a:ext cx="7991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solidation question(s) is more than just “do another one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85800" y="990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as our focus in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2A08-5B82-4986-9EC8-DBB157A77B0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 let’s change direction a bit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8900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have been focusing on the ma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let’s focus on the stud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009D-1EE3-4FED-9565-DC40F204AC0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ur Corner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907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corner for the View and Discuss between-session opportunity you took advantage of OR are most interested 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B2AC-71DC-4E05-A106-CC718F75721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68360" y="99072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ing about differenti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55640" y="2060640"/>
            <a:ext cx="795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look at a problem we might plan to use to see how thinking about difficulties students might have could lead you to alter the problem or differentiate the tas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6F26-B4BA-4F81-87FD-2CFBF0947DF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 this is the scenari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182880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EB7D-09CB-4056-9771-C895B4DC9AB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Picture 1.png"/>
          <p:cNvPicPr/>
          <p:nvPr/>
        </p:nvPicPr>
        <p:blipFill>
          <a:blip r:embed="rId1"/>
          <a:stretch/>
        </p:blipFill>
        <p:spPr>
          <a:xfrm>
            <a:off x="252360" y="25956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4360" y="1828800"/>
            <a:ext cx="779940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your students to solve this probl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ndon and Alexis counted their money. Together, they had $7.50, but Brandon had $2.90 more than Alex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D816-2E8B-4FB4-9D97-24FB36562AE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066680" y="1295280"/>
            <a:ext cx="741708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Together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42A3-CB9D-4C5D-98FF-9DDC333E3AE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182880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make a “top 5” list of anticipated difficult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0957-EA1B-4A9C-AE93-7A806370C5E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55600" y="9079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ook at on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539640" y="1746360"/>
            <a:ext cx="8317080" cy="81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a look at the hand-out showing one approach to dealing with a possible difficul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pair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ggest an alternate problem based on a possible difficul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D6FB-62DE-4F40-A79B-B067B923EB7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66680" y="2057400"/>
            <a:ext cx="764568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r alternate problem address the difficul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0C1B-E87D-47CE-A861-4D423B7332E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5800" y="9907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is approach might lea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826920" y="2057400"/>
            <a:ext cx="765684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iating instruction, maybe offering one problem to some students and another to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CF48-F5B5-4B25-9EED-7C9B60FC040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90720" y="21337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ocus on big ideas (to have something big enough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67C7-F14A-4CC2-97A9-3F952A6A40A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34920" y="213372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or assessment (to know the need and direction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5A07-309D-42AE-A6C6-6C62E3A8D2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85800" y="9907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ur Corner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907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some of your observations and/or thoughts with those from other boards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4D33-5942-43C9-BFD7-30D6081A7B7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701640" y="990720"/>
            <a:ext cx="76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nticipation Guide for Grade 8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FF0B-FEBB-430E-9857-68710A864E3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760400" y="2771640"/>
            <a:ext cx="5562720" cy="36766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228600" y="25909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or disagree. Exp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701640" y="99072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Exit Card,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2735-EA35-4E06-96B7-506D5E5DF45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1760400" y="2114640"/>
            <a:ext cx="5524560" cy="4324320"/>
          </a:xfrm>
          <a:prstGeom prst="rect">
            <a:avLst/>
          </a:prstGeom>
          <a:ln w="0">
            <a:noFill/>
          </a:ln>
        </p:spPr>
      </p:pic>
      <p:sp>
        <p:nvSpPr>
          <p:cNvPr id="151" name="Rounded Rectangle 6"/>
          <p:cNvSpPr/>
          <p:nvPr/>
        </p:nvSpPr>
        <p:spPr>
          <a:xfrm>
            <a:off x="1760400" y="4159080"/>
            <a:ext cx="3724560" cy="584280"/>
          </a:xfrm>
          <a:prstGeom prst="roundRect">
            <a:avLst>
              <a:gd name="adj" fmla="val 16667"/>
            </a:avLst>
          </a:prstGeom>
          <a:solidFill>
            <a:srgbClr val="ffccff">
              <a:alpha val="40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216864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(to actually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595C-BF53-4E04-8CA4-B173BC7340B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ny of us 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90720" y="2023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nventional approach to differentiating is to scaffold-- presenting problems in bits. Maybe this is not the only or the best way, to differenti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FBEB-0D50-41A7-8BE3-AF20603F42B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ur focu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26920" y="202392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ll be on two strateg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78BD-182E-403C-9D1B-1897A73E5E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92000" y="20970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 ques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bout creating a linear growing pattern beginning at -10 that grew slow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FBCC-8CA8-4430-AB5A-20C39669FFE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26920" y="20970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task where you matched questions to big ideas but different groups used differen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8B36-D81A-4171-8F65-FFF17DAB14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ticipated difficul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00000" y="20970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anticipating the “difficulty” some grade 7-9 teachers might have with grade 11 or 12 content, we differentiated the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BE7B-71B6-42D7-8B11-08886F7FCAF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n parallel task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826920" y="216864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look at the same instructional goal, with the anticipated student difficulty address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7F10-CB31-4A1F-BE67-C21515BD209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826920" y="21337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ok at your listing of alternative Brandon/Alexis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may have already created parallel tas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9B0A-1276-428F-9471-8ABFEB5120A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9907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ore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55640" y="2023920"/>
            <a:ext cx="7645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try out any goal setting/question writing activities related to our last sess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what happened with a part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96FA-5D95-4A16-A243-057958FB13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ll that’s miss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26920" y="20970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how to handle the class when different students work on different tasks focused on the same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’ll address that n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F1DC-22E5-4924-9CC3-EAEB58EE8F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n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BC89-BF06-40ED-AD6F-56F933F826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Picture 2.png"/>
          <p:cNvPicPr/>
          <p:nvPr/>
        </p:nvPicPr>
        <p:blipFill>
          <a:blip r:embed="rId1"/>
          <a:stretch/>
        </p:blipFill>
        <p:spPr>
          <a:xfrm>
            <a:off x="108000" y="2133720"/>
            <a:ext cx="9144000" cy="355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792000" y="19810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plan to ask: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The slope of a line is -2/3. Tell us the coordinates of two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2603-A298-4A80-AD6B-BD2E5B52ED4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 could anticipat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11280" y="2168640"/>
            <a:ext cx="78357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some students may need more time with positive slopes before they are ready for problems involving negative slo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FEEB-9A47-45C6-910F-02D1E8A8384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ooking at the goal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468360" y="3205080"/>
            <a:ext cx="8209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gative slopes are not really required. Students could address the goal using either positive or negative slo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6EB5-84E3-40F2-B60C-BF77F45B001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Picture 1.png"/>
          <p:cNvPicPr/>
          <p:nvPr/>
        </p:nvPicPr>
        <p:blipFill>
          <a:blip r:embed="rId1"/>
          <a:stretch/>
        </p:blipFill>
        <p:spPr>
          <a:xfrm>
            <a:off x="380880" y="2057400"/>
            <a:ext cx="8367840" cy="88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863640" y="21337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create parallel tasks, offering choices accessible to more stud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1E01-55E7-45A2-848C-96BED9F305C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876920" y="1901880"/>
            <a:ext cx="3733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2/3 goes through (-4,-1).   Name two more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762120" y="1828800"/>
            <a:ext cx="3733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-2/3 goes through (-4,-1).  Name two more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3BA7-61C9-493E-A58E-9460A91A241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know which way your line slants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7AC1-7BEA-4612-B172-245D4F6288D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62120" y="2149560"/>
            <a:ext cx="80229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4, 3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3, 0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2939-DFA4-4A56-9998-3CF31D18536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68360" y="2149560"/>
            <a:ext cx="83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your points and how did you get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did many of you choose points with x-coordinates of   -1 and -7, but not -5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E9AB-5560-4CB7-8444-4761A0A601E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4000" y="990720"/>
            <a:ext cx="866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ses to Sticky Note Pile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76360" y="2097000"/>
            <a:ext cx="8208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tried this activity, what was it connected to? (e.g. norms for collaborative group wor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was the value to you, your students or fellow colleagu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else could you us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1214-21F2-495C-91D5-F784E334D4B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863640" y="21337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useful particularly for the main instructional activity in a 3-par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BB12-E737-4694-BEE4-6ADFE81FE17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MATCH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863640" y="2658960"/>
            <a:ext cx="7416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Picture 1.png"/>
          <p:cNvPicPr/>
          <p:nvPr/>
        </p:nvPicPr>
        <p:blipFill>
          <a:blip r:embed="rId1"/>
          <a:stretch/>
        </p:blipFill>
        <p:spPr>
          <a:xfrm>
            <a:off x="1365120" y="2222640"/>
            <a:ext cx="1181160" cy="1600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Picture 2.png"/>
          <p:cNvPicPr/>
          <p:nvPr/>
        </p:nvPicPr>
        <p:blipFill>
          <a:blip r:embed="rId2"/>
          <a:stretch/>
        </p:blipFill>
        <p:spPr>
          <a:xfrm>
            <a:off x="1371600" y="3429000"/>
            <a:ext cx="1193760" cy="1752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Picture 3.png"/>
          <p:cNvPicPr/>
          <p:nvPr/>
        </p:nvPicPr>
        <p:blipFill>
          <a:blip r:embed="rId3"/>
          <a:stretch/>
        </p:blipFill>
        <p:spPr>
          <a:xfrm>
            <a:off x="1371600" y="464832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215" name="Slide Number Placeholder 7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150E-932F-4D5F-86F5-68F57404C0D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ere you might use the previous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5800" y="25146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evious parallel task could have been the Action! if slope had just been introduc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5DAA-D298-4358-87ED-9C52CAD3393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19280" y="99072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ere you might use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85800" y="2133720"/>
            <a:ext cx="8026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could have been the Minds On if students already had significant experience with slo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4C62-8F11-47BD-9572-5B5B81CB67A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other exa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C90A-3472-457F-9323-628D7F2D972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Picture 1.png"/>
          <p:cNvPicPr/>
          <p:nvPr/>
        </p:nvPicPr>
        <p:blipFill>
          <a:blip r:embed="rId1"/>
          <a:stretch/>
        </p:blipFill>
        <p:spPr>
          <a:xfrm>
            <a:off x="144360" y="2276640"/>
            <a:ext cx="9144000" cy="372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iginal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4360" y="238428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had planned an activity where students would translate a series of algebraic expressions into words and vice-ver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695A-8CEA-429E-8F55-AFD469053E5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762120" y="214956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realized that some expressions may be much more difficult for students than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68CA-9D59-4470-8B7B-A08FE0AD7D9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762120" y="214956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the more difficult ones addressed, but you need to build succe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F7B3-50F3-4F04-BCCB-55F2722FA3E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762120" y="2149560"/>
            <a:ext cx="7619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 each of the three phrases as an algebraic expres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9CC1-AF52-44C1-9B87-C0ACBE488DB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03280" y="2023920"/>
            <a:ext cx="39607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oic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iple a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ract a number from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 a number to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FEEE-4519-48AB-8D5B-69B37581606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4680000" y="2019240"/>
            <a:ext cx="42354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oic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 1 to a number and then doubl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ract a number from 10 and then divide by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iple a number, add 2 and then add 1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24000" y="990720"/>
            <a:ext cx="866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ticky Note Pileup Exemp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76360" y="2097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&lt;&lt;Insert Shirley’s picture(s) of sticky note pileup poster here&gt;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EFA3-E8A9-4E5D-A3FC-532411B3255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762120" y="1905120"/>
            <a:ext cx="77724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operation signs appeared in your algebraic expression? Why th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re there other ways to write your expression? Expl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FAA6-DA33-4925-BE67-D937A456247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762120" y="2149560"/>
            <a:ext cx="7772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it matter which letter you used for your variable? Why or why n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was easiest for you?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B9A2-6A91-4079-9034-C3AA02E60F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14400" y="1905120"/>
            <a:ext cx="77724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have ended up with the same expression with slightly different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might someone say it’s easier to use the algebraic expressions than the wor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24A9-AE0C-4908-A9EE-9D49B861618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5A86-2DD2-4225-9A01-1018190BCA8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Picture 3.png"/>
          <p:cNvPicPr/>
          <p:nvPr/>
        </p:nvPicPr>
        <p:blipFill>
          <a:blip r:embed="rId1"/>
          <a:stretch/>
        </p:blipFill>
        <p:spPr>
          <a:xfrm>
            <a:off x="181080" y="2330280"/>
            <a:ext cx="9144000" cy="3870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762120" y="214956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articular operation the student uses is irrelevant to the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1EE3-16D3-4590-9F33-B1A132DCE6E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 the choices might b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684360" y="1909800"/>
            <a:ext cx="3773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add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4730760" y="1909800"/>
            <a:ext cx="3657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multiply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EA83-F17E-400E-BF0B-43D1B6F5119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lgebra tiles show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to model that polynom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C868-E1C7-4605-9EA2-E45EE66FE6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762120" y="19810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arrange your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you could have arranged the til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201E-0C5F-4BA1-8FC3-850B04F86E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904000" y="5842080"/>
            <a:ext cx="2089080" cy="459720"/>
          </a:xfrm>
          <a:prstGeom prst="rect">
            <a:avLst/>
          </a:prstGeom>
          <a:solidFill>
            <a:srgbClr val="ff99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rtual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762120" y="198108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figure out how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B64F-B5AA-48C2-A211-05CE11E7C9E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17524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your group, choose one of the suggested set of parallel task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ome common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0E3E-DCA7-4F67-86D1-CB0DB6F37FD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99072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sponses to professional learning protocols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03280" y="2724120"/>
            <a:ext cx="8172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those of you who have been coached or been a coach, which of these protocols is one requiring more focus for you? 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E2DC-893C-4303-8E45-DF2BA0F0B11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62120" y="189540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one of the four corners for people who did your task. Share your questions with another group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57FB-4FBF-4AD5-A254-7ED3BA6BAF9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62120" y="199692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think about open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0394-B309-44C2-B012-845E1662C88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Picture 1.png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59440"/>
          </a:xfrm>
          <a:prstGeom prst="rect">
            <a:avLst/>
          </a:prstGeom>
          <a:ln w="0">
            <a:noFill/>
          </a:ln>
        </p:spPr>
      </p:pic>
      <p:sp>
        <p:nvSpPr>
          <p:cNvPr id="279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6E18-03BF-499E-B2FB-C6449667F82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90720" y="1981080"/>
            <a:ext cx="30477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be a relation… sort of like this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105520" y="1905120"/>
            <a:ext cx="30477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ype of relati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FDD9-0941-4E09-B7A8-FB87D855765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underlyin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826920" y="216864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which big idea do you think this question might relat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2F85-126C-4E5F-9DFE-69BE8004057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990720" y="2209680"/>
            <a:ext cx="76500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scrib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lation the graph could represe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9C8B-63D5-4EAE-BB6C-A93D43C85C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1066680" y="22096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 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the equa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1C7F-BE21-4852-AD15-DE96795372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de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de the first question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0F39-172F-4022-AAC8-658E0EE19F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990720" y="2057400"/>
            <a:ext cx="25146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Write an equation and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4572000" y="1981080"/>
            <a:ext cx="41911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Solve 3x-2 = 8.  Describe your strate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CBF9-1BB1-4D65-BC36-C707A13B5A9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0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open question, as a minds-on activity, provides valuable information about how to proceed with your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Picture 1.png"/>
          <p:cNvPicPr/>
          <p:nvPr/>
        </p:nvPicPr>
        <p:blipFill>
          <a:blip r:embed="rId1"/>
          <a:stretch/>
        </p:blipFill>
        <p:spPr>
          <a:xfrm>
            <a:off x="0" y="2629080"/>
            <a:ext cx="1181160" cy="160020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EB07-5C61-4352-835E-DC1DFF742BD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Responding to Day 1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533520" y="1712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>
            <a:off x="1981080" y="4056120"/>
            <a:ext cx="609840" cy="1219320"/>
          </a:xfrm>
          <a:prstGeom prst="upDownArrow">
            <a:avLst>
              <a:gd name="adj1" fmla="val 50000"/>
              <a:gd name="adj2" fmla="val 3980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4800600" y="4970520"/>
            <a:ext cx="167652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4876920" y="5808600"/>
            <a:ext cx="1295280" cy="533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441960" y="63025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e’r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3"/>
          <p:cNvSpPr/>
          <p:nvPr/>
        </p:nvSpPr>
        <p:spPr>
          <a:xfrm>
            <a:off x="900000" y="20239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there are missing prerequisites that will get in the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6889-5979-4B11-A9C2-F90F69CBF4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3"/>
          <p:cNvSpPr/>
          <p:nvPr/>
        </p:nvSpPr>
        <p:spPr>
          <a:xfrm>
            <a:off x="863640" y="177336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students already know what you were planning to tea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5D3B-87F3-45FF-B7C8-CA23085102F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792000" y="15922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lesson is going in the right direction, but needs a few “tweaks”; recognizing what students have said could hel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4FBC-77C1-40DA-876E-6F0C7723B54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503280" y="1096920"/>
            <a:ext cx="81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mparing open questions and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468360" y="2835360"/>
            <a:ext cx="835164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 might be more vague than parallel tas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times an open question can replace two parallel 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DEB7-EF96-46C7-AD34-74A4A6840C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990720" y="22096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 the parallel task where we used a positive slope vs a negative one, we could have sa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96D1-F7B0-47E6-8491-781C94E390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755640" y="2209680"/>
            <a:ext cx="795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goes through (-4,-1). Choose its slop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ce you’ve chosen it, name another point on the lin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11CD-B203-42FB-A603-AFB0924BA27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3"/>
          <p:cNvSpPr/>
          <p:nvPr/>
        </p:nvSpPr>
        <p:spPr>
          <a:xfrm>
            <a:off x="503280" y="2057400"/>
            <a:ext cx="8245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n questions can work in all three parts of a three-part les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allel questions suit the Action! and perhaps Minds On, but not likely the Consolidate/Debrief where things are pulled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Where to use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FE46-5A1C-4B41-95A6-ACEA0E6B4F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example, a Minds On open question related to Big Idea 5 might be: Create two linear growing patterns that you think are really simi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2323-FE4D-4144-91C3-6A70707CE0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Picture 1.png"/>
          <p:cNvPicPr/>
          <p:nvPr/>
        </p:nvPicPr>
        <p:blipFill>
          <a:blip r:embed="rId1"/>
          <a:stretch/>
        </p:blipFill>
        <p:spPr>
          <a:xfrm>
            <a:off x="0" y="1523880"/>
            <a:ext cx="118116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3"/>
          <p:cNvSpPr/>
          <p:nvPr/>
        </p:nvSpPr>
        <p:spPr>
          <a:xfrm>
            <a:off x="1066680" y="205740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could as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kes them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ir pattern rules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94C9-CD9C-4B65-B509-29508A5AE6B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1066680" y="2057400"/>
            <a:ext cx="7315200" cy="31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linea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qua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know that x + y = 5.  What else do you know about x and y?  (Related to BI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66C3-61FF-4001-88D0-DFF168A9DF9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Picture 1.png"/>
          <p:cNvPicPr/>
          <p:nvPr/>
        </p:nvPicPr>
        <p:blipFill>
          <a:blip r:embed="rId1"/>
          <a:stretch/>
        </p:blipFill>
        <p:spPr>
          <a:xfrm>
            <a:off x="0" y="1523880"/>
            <a:ext cx="118116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480" y="1744560"/>
            <a:ext cx="7772400" cy="50072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5"/>
          <p:cNvSpPr/>
          <p:nvPr/>
        </p:nvSpPr>
        <p:spPr>
          <a:xfrm>
            <a:off x="4419720" y="4030560"/>
            <a:ext cx="213336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435560" y="5249880"/>
            <a:ext cx="1295280" cy="533520"/>
          </a:xfrm>
          <a:prstGeom prst="wedgeRoundRectCallout">
            <a:avLst>
              <a:gd name="adj1" fmla="val -79046"/>
              <a:gd name="adj2" fmla="val -6546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044880" y="517356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e’re 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419720" y="5859360"/>
            <a:ext cx="3809880" cy="762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Responding to Day 1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For th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781C-F031-420F-90D1-9114CC311AB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Picture 2.png"/>
          <p:cNvPicPr/>
          <p:nvPr/>
        </p:nvPicPr>
        <p:blipFill>
          <a:blip r:embed="rId1"/>
          <a:stretch/>
        </p:blipFill>
        <p:spPr>
          <a:xfrm>
            <a:off x="762120" y="1905120"/>
            <a:ext cx="1193760" cy="17524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4"/>
          <p:cNvSpPr/>
          <p:nvPr/>
        </p:nvSpPr>
        <p:spPr>
          <a:xfrm>
            <a:off x="1981080" y="1981080"/>
            <a:ext cx="67057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two different values for the missing amounts. Make them different kinds of numbers: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x –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4 +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diagram or create a flow chart that would help someone understand how to solve your equation. (BI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1066680" y="2057400"/>
            <a:ext cx="7315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this activity help the struggling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it help the stronger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th is lea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An Open Ac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D30E-A879-4830-8CC9-AE1427FE41C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linear growing pattern has 50 as the 2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Create a bunch of possible pattern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where your pattern starts relate to how fast it grows?  (BI 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6C06-DF29-4220-BECA-13FD4DFC32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" descr="Picture 2.png"/>
          <p:cNvPicPr/>
          <p:nvPr/>
        </p:nvPicPr>
        <p:blipFill>
          <a:blip r:embed="rId1"/>
          <a:stretch/>
        </p:blipFill>
        <p:spPr>
          <a:xfrm>
            <a:off x="380880" y="1219320"/>
            <a:ext cx="119376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6" descr="Picture 2.png"/>
          <p:cNvPicPr/>
          <p:nvPr/>
        </p:nvPicPr>
        <p:blipFill>
          <a:blip r:embed="rId1"/>
          <a:stretch/>
        </p:blipFill>
        <p:spPr>
          <a:xfrm>
            <a:off x="304920" y="838080"/>
            <a:ext cx="1193760" cy="19051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wo lines intersect at (1,3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is much steeper than the ot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uld the pair of lines be? Give several possibilities. (BI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ore Action!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F86C-10AC-45C0-AFD1-28937BEE456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7" descr="Picture 3.png"/>
          <p:cNvPicPr/>
          <p:nvPr/>
        </p:nvPicPr>
        <p:blipFill>
          <a:blip r:embed="rId1"/>
          <a:stretch/>
        </p:blipFill>
        <p:spPr>
          <a:xfrm>
            <a:off x="152280" y="121932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1066680" y="2057400"/>
            <a:ext cx="73152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are also very appropriate for consolid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saw many of these in our last sess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Consolid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775E-F834-492E-B08B-BDE97DA64FE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about the meaning of linear equations, e.g. what    4x – 2 = 9 mea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F42E-52E1-4013-B13A-7D7881F2F9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7" descr="Picture 3.png"/>
          <p:cNvPicPr/>
          <p:nvPr/>
        </p:nvPicPr>
        <p:blipFill>
          <a:blip r:embed="rId1"/>
          <a:stretch/>
        </p:blipFill>
        <p:spPr>
          <a:xfrm>
            <a:off x="457200" y="1066680"/>
            <a:ext cx="1181160" cy="19306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"/>
          <p:cNvSpPr/>
          <p:nvPr/>
        </p:nvSpPr>
        <p:spPr>
          <a:xfrm>
            <a:off x="1066680" y="205740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se equations alike and different? (BI 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 – 6x 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E00A-5CB4-43EA-8393-8D97C066653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7" descr="Picture 3.png"/>
          <p:cNvPicPr/>
          <p:nvPr/>
        </p:nvPicPr>
        <p:blipFill>
          <a:blip r:embed="rId1"/>
          <a:stretch/>
        </p:blipFill>
        <p:spPr>
          <a:xfrm>
            <a:off x="457200" y="1143000"/>
            <a:ext cx="1181160" cy="19303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parabola is very narrow and one parabola is very w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know or what don’t you know about how their equations differ? (BI 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C8A8-BD72-4B62-B546-9B3F21F9554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3"/>
          <p:cNvSpPr/>
          <p:nvPr/>
        </p:nvSpPr>
        <p:spPr>
          <a:xfrm>
            <a:off x="884160" y="1895400"/>
            <a:ext cx="78138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will be given a set of open question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 with a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which part of a 3-part lesson would you consider using each question?  Justify your choice using the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Convince Me!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atch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CABC-0A0F-47AD-B17C-6EDE70F4B66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3"/>
          <p:cNvSpPr/>
          <p:nvPr/>
        </p:nvSpPr>
        <p:spPr>
          <a:xfrm>
            <a:off x="884160" y="1895400"/>
            <a:ext cx="7813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are with another p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Matching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B998-E9EE-4C7F-BC2D-0EC0521CF2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3:56:47Z</dcterms:created>
  <dc:creator>PSteele</dc:creator>
  <dc:description/>
  <dc:language>en-US</dc:language>
  <cp:lastModifiedBy>Marian Small</cp:lastModifiedBy>
  <dcterms:modified xsi:type="dcterms:W3CDTF">2009-10-29T04:16:04Z</dcterms:modified>
  <cp:revision>417</cp:revision>
  <dc:subject/>
  <dc:title>Slide 1</dc:title>
</cp:coreProperties>
</file>